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9A4-38B9-443C-9D4B-8CB125EF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22A-4753-4765-A245-0F0AA589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C12-B7D8-4CA8-B22C-ECC2E039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B51-7E29-4B94-9894-9BDA1F6A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DC5-F619-4CA3-8ADE-3C25D341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114-8CA9-4849-8750-0E145D8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25F-5734-41FF-92A3-8147D02D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A14-5010-435C-A8C0-728FEFF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4FA-3944-4BD5-B491-B0C63144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627-7A59-4EA2-BFB7-53D75C6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1B0-7FD0-4005-9553-70A8899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3F0-C01A-4EC6-AFAF-585AC48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3D8-296D-4384-AE82-34B64AF32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dc.gov/std/HIV/std_hiv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736560"/>
            <a:ext cx="9372600" cy="50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Prevalence among 16- to 24-year-old 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176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than 100 men residing in these states/areas and entering the National Job Training Program were screened for chlamydia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he median state-specific chlamydia prevalence among male stud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ntering the National Job Training Program in 2005 was 8.1% (range 0.0% to 14.8%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447920" y="797040"/>
            <a:ext cx="108968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norrhea — Prevalence among 16- to 24-year-old wo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788080"/>
            <a:ext cx="87631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40360"/>
            <a:ext cx="784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 than 100 women residing in these states/areas and entering the National Job Training Program were screened for gonorrhea by the national contract laboratory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143000" y="1001880"/>
            <a:ext cx="111124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norrhea — Prevalence among 16- to 24-year-old 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19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 than 100 men residing in these states/areas and entering the National Job Training Program were screened for gonorrhea by the national contract laboratory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128680" y="776160"/>
            <a:ext cx="12102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rest way to avoid transmission of sexually transmitted diseases is to abstain from sexual intercourse, or to be in a long-term mutually monogamous relationship with a partner who has been tested and you know is uninfec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persons whose sexual behaviors place them at risk for STDs, correct and consistent use of the male latex condom can reduce the risk of STD transmiss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n STD 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a broch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f you are a health care provider and want to give your patients information regarding this S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89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Front cover has an interesting image and a title that will get students to read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Front cover has a quote that is attributed (who said it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All 6 panels contain information and pic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points Contains information about what it is (virus, or bacteria, what it looks like, where you get it…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points Contains information on how to prevent getting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information about how to cure it (or n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information on what do if you ge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oints Contains facts about the prevalence in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oints Contains other interesting stat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oints Contains an anonymous story from re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thing else you can think of to make it effective. Think in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dc.gov/std/HIV/std_hiv.pd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dc.gov/std/defaul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nk between STDs and HIV inf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infected with STDs are 2-5 times more likely than unaffected individuals to acquire HIV if they are exposed through sexual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uscepti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ital ulcers-&gt;portal for H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ulcerative ST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infectious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TD is combined with HIV, genital secretion of HIV is 10 times hig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can STD treatment slow the spread of HIV inf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D treatment reduces and individual’s ability to transmit HIV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TD treatment reduces the spread of HIV infection in communiti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tinuous interventions to improve acces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st affective in areas where STD infection is high and heterosexual HIV epidemic is young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reatment of symptomatic STDs may be particularly importa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ications for HIV prevention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of curable STDs should be a major, explicit component of comprehensive HIV prevention progra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reas where STDs that facilitate HIV transmission are prevalent, screening and treatment programs should be expa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V and STD prevention programs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primary ways that STDs can be transmitted. Human immunodeficiency virus (HIV), as well as gonorrhea, chlamydia, and trichomoniasis – the discharge diseases – are transmitted when infected semen or vaginal fluids contact mucosal surfaces (e.g., the male urethra, the vagina or cervix). In contrast, genital ulcer diseases – genital herpes, syphilis, and chancroid – and human papillomavirus are primarily transmitted through contact with infected skin or mucosal surfa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Trends in positivity among 15- to 19-year-old women tested in family planning clinics by HHS regions, 2001–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1720" y="5635800"/>
            <a:ext cx="6938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88080"/>
            <a:ext cx="9144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rends adjusted for changes in laboratory test method and associated increases in test sensitivit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OURCE: Regional Infertility Prevention Projects; Office of Population Affairs; Local and State STD Control Programs; Centers f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Disease Control and Preven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6324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7840"/>
            <a:ext cx="9524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87080"/>
            <a:ext cx="8915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amydia — Prevalence among 16- to 24-year-old women entering the National Job Training Program by state of residence: United States and outlying areas, 200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7680" y="5864400"/>
            <a:ext cx="6939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711760"/>
            <a:ext cx="89917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*Fewer than 100 women residing in these states/areas and entering the National Job Training Program were screened for chlamydia in 200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Note: The median state-specific chlamydia prevalence among female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ntering the National Job Training Program in 2005 was 9.2% (range 3.1% to 14.5%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219320" y="831960"/>
            <a:ext cx="108968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9:56:46Z</dcterms:created>
  <dc:creator>Princess Bellyn</dc:creator>
  <dc:description/>
  <dc:language>en-US</dc:language>
  <cp:lastModifiedBy>public</cp:lastModifiedBy>
  <dcterms:modified xsi:type="dcterms:W3CDTF">2007-08-07T14:18:39Z</dcterms:modified>
  <cp:revision>4</cp:revision>
  <dc:subject/>
  <dc:title>Slide 1</dc:title>
</cp:coreProperties>
</file>